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64D-46AD-4748-9A8D-81710EB2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8A5-45BE-47F6-A8DE-D4522DE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C9A-FC2B-449F-8A4F-C418FFB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E9A-7E18-45B5-9E81-B4857BFD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3B7-3411-469C-B545-72DA760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CAF-599D-4FEE-93DB-99AD58A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BC3-7653-4D48-85C6-058B895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026-62F1-4205-82C2-5E4FBC0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595-2E63-4906-ACF1-3C2CD0E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B2A-2F9D-4222-BC57-BBE6C59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FD1-2BE8-4B28-9BFB-7EDDDE3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75C-6003-48D0-AA64-9A9C110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FEA8-6925-4891-ADF8-E20E8A64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primero de octu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2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\ La Comid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(food, me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114800" y="2581200"/>
            <a:ext cx="380988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62000" y="1066680"/>
            <a:ext cx="11476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22520" y="11905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1295280" y="4952880"/>
            <a:ext cx="1614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648320" y="594360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5867280" y="2362320"/>
            <a:ext cx="0" cy="761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181480" y="1827360"/>
            <a:ext cx="14479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7238880" y="2895480"/>
            <a:ext cx="685800" cy="6098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781680" y="2362320"/>
            <a:ext cx="2362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6553080" y="4495680"/>
            <a:ext cx="914400" cy="6098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7010280" y="5027760"/>
            <a:ext cx="2133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4114800" y="4800600"/>
            <a:ext cx="83808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3048120" y="4494240"/>
            <a:ext cx="1447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2666880" y="2971800"/>
            <a:ext cx="914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152280" y="213372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2286000" y="60199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"/>
          <p:cNvPicPr/>
          <p:nvPr/>
        </p:nvPicPr>
        <p:blipFill>
          <a:blip r:embed="rId5"/>
          <a:stretch/>
        </p:blipFill>
        <p:spPr>
          <a:xfrm>
            <a:off x="1522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1"/>
          <p:cNvSpPr/>
          <p:nvPr/>
        </p:nvSpPr>
        <p:spPr>
          <a:xfrm>
            <a:off x="1447920" y="3505320"/>
            <a:ext cx="2057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oco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600200" cy="138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90920" y="9907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5"/>
          <a:stretch/>
        </p:blipFill>
        <p:spPr>
          <a:xfrm>
            <a:off x="2743200" y="3048120"/>
            <a:ext cx="1828800" cy="165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904760" cy="165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7"/>
          <a:stretch/>
        </p:blipFill>
        <p:spPr>
          <a:xfrm>
            <a:off x="7086600" y="1828800"/>
            <a:ext cx="900000" cy="1419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8"/>
          <a:stretch/>
        </p:blipFill>
        <p:spPr>
          <a:xfrm>
            <a:off x="5257800" y="34290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9"/>
          <a:stretch/>
        </p:blipFill>
        <p:spPr>
          <a:xfrm>
            <a:off x="7562880" y="358128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3"/>
          <p:cNvSpPr/>
          <p:nvPr/>
        </p:nvSpPr>
        <p:spPr>
          <a:xfrm>
            <a:off x="5791320" y="8380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l Almuer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0" y="1981080"/>
            <a:ext cx="2362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52280" y="30481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6"/>
          <p:cNvSpPr/>
          <p:nvPr/>
        </p:nvSpPr>
        <p:spPr>
          <a:xfrm>
            <a:off x="3124080" y="2209680"/>
            <a:ext cx="1219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4724280" y="2743200"/>
            <a:ext cx="1676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685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2819520" y="4724280"/>
            <a:ext cx="1523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6934320" y="3200400"/>
            <a:ext cx="1066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>
            <a:off x="5257800" y="4876920"/>
            <a:ext cx="121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7467480" y="5103720"/>
            <a:ext cx="1676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7848720" y="5486400"/>
            <a:ext cx="1218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4"/>
          <p:cNvSpPr/>
          <p:nvPr/>
        </p:nvSpPr>
        <p:spPr>
          <a:xfrm>
            <a:off x="7391520" y="586584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5"/>
          <p:cNvSpPr/>
          <p:nvPr/>
        </p:nvSpPr>
        <p:spPr>
          <a:xfrm>
            <a:off x="6019920" y="388620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eb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H="1">
            <a:off x="5866920" y="4267080"/>
            <a:ext cx="83844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7010280" y="3580920"/>
            <a:ext cx="2286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10280" y="4267080"/>
            <a:ext cx="60984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9" descr="MC900441781[1]"/>
          <p:cNvPicPr/>
          <p:nvPr/>
        </p:nvPicPr>
        <p:blipFill>
          <a:blip r:embed="rId10"/>
          <a:stretch/>
        </p:blipFill>
        <p:spPr>
          <a:xfrm>
            <a:off x="228600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11"/>
          <a:stretch/>
        </p:blipFill>
        <p:spPr>
          <a:xfrm>
            <a:off x="365760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1"/>
          <p:cNvSpPr/>
          <p:nvPr/>
        </p:nvSpPr>
        <p:spPr>
          <a:xfrm>
            <a:off x="2133720" y="609444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3581280" y="6246720"/>
            <a:ext cx="1828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u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71144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238880" y="3048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2362320" cy="168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4"/>
          <a:stretch/>
        </p:blipFill>
        <p:spPr>
          <a:xfrm>
            <a:off x="5537160" y="4419720"/>
            <a:ext cx="225900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5"/>
          <a:stretch/>
        </p:blipFill>
        <p:spPr>
          <a:xfrm>
            <a:off x="2514600" y="838080"/>
            <a:ext cx="1943280" cy="153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28600" y="3505320"/>
            <a:ext cx="3124080" cy="14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4648320" y="1371600"/>
            <a:ext cx="195264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C900112420[1]"/>
          <p:cNvPicPr/>
          <p:nvPr/>
        </p:nvPicPr>
        <p:blipFill>
          <a:blip r:embed="rId8"/>
          <a:stretch/>
        </p:blipFill>
        <p:spPr>
          <a:xfrm>
            <a:off x="3429000" y="4330800"/>
            <a:ext cx="2057400" cy="11113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5"/>
          <p:cNvSpPr/>
          <p:nvPr/>
        </p:nvSpPr>
        <p:spPr>
          <a:xfrm>
            <a:off x="685800" y="2284560"/>
            <a:ext cx="11430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s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2819520" y="2362320"/>
            <a:ext cx="11430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876920" y="99072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1981080" y="609444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a 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914400" y="4951440"/>
            <a:ext cx="2133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4343400" y="3808440"/>
            <a:ext cx="1752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7772400" y="55627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7391520" y="434340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7315200" y="21337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7010280" y="2514600"/>
            <a:ext cx="1981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22813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381400" cy="218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380880" y="33526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5486400" y="3276720"/>
            <a:ext cx="335268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super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04920" y="586728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resta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715000" y="5865840"/>
            <a:ext cx="274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 caf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el dialogo y respond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i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vier,¿tienes una familia gra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vi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, bastante grande. Somos siete. Teng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atro her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i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¿Viven ustedes aqui en la ca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vi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, vivimos en la capital. Tenemos u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rtamento en el edificio Bolivar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ell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¿Tiene Javier una familia gra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¿Cuantos hermanos tiene Jav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¿Vive su familia en la ca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¿Donde tienen un aparta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¿En que seccion de la ciudad esta el edificio Boliv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CASA Y LA CO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716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1T19:18:14Z</cp:lastPrinted>
  <dcterms:modified xsi:type="dcterms:W3CDTF">2014-10-01T21:04:58Z</dcterms:modified>
  <cp:revision>19</cp:revision>
  <dc:subject/>
  <dc:title>Me llamo _________ Clase 6 nh/il La fecha es el 10 de marzo del 2011</dc:title>
</cp:coreProperties>
</file>